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983400"/>
            <a:ext cx="8496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9834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9834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1250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11250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9834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9834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9834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0A2-7B85-4EFE-856F-E90DB4B6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B61-3CBB-4B86-A79B-3E559B61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455-B3D2-471F-A33A-316F4EA3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3DA-31B8-4C5E-96FF-C76FE70C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DA7-CB6E-4921-A71D-67A5073B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4000" y="274680"/>
            <a:ext cx="84960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3F1-0D73-4D12-849D-81393CAC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4000" y="39834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766-1BD4-4855-9632-E9FFB1E8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7480" y="39834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A92-7A4A-466B-9F88-5E473B09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4000" y="3983400"/>
            <a:ext cx="8496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48F-7C94-4875-AB2C-2E5CA540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00" y="3983400"/>
            <a:ext cx="8496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5016-3216-4481-9C12-77BF189A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24000" y="39834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7480" y="39834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17C-F423-4B31-941E-406CAB62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96800" y="11250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69600" y="11250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24000" y="39834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96800" y="39834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69600" y="398340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AD2-3932-464D-BA33-00927CFC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4000" y="274680"/>
            <a:ext cx="84960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9834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9834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1125000"/>
            <a:ext cx="41457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983400"/>
            <a:ext cx="8496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9013-D60B-41BD-959F-6B604BB010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63640" y="2421000"/>
            <a:ext cx="626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stance and Midpo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5734080"/>
            <a:ext cx="2282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y thi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midpoint, M of the line segment with endpoints A (-2, -3) and B(4,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(1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length of the line seg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6 =  11.66 .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 a circ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49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points of the diametre of a circle are located at (-7,5) and (11, 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ength of the radius of this cir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angle has vertic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7, 16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, 4)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, –4). Prove that the triangle is right-ang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 (Draw the triangle and find slop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nd the length of the horizontal line PR and the vertical line Q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9760" y="1666800"/>
            <a:ext cx="5213160" cy="4740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19240" y="54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5440" y="4483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9064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1628640"/>
            <a:ext cx="244764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st the coordinates of P, Q, an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 (1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 (5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(5,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 = 5 – 1 = 4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subtract the x coordinates for a horizontal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R = 4 – 1 = 3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subtract the y coordinates for a vertical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nd the distance from P to Q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9760" y="1666800"/>
            <a:ext cx="5213160" cy="4740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9240" y="54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5440" y="4483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9064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64000" y="1557360"/>
            <a:ext cx="3024360" cy="494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length of QR and 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lengths and the Pythagorean Theorem, calculate the length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Q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Q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Q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812000" y="2714760"/>
                <a:ext cx="505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364000" y="3213000"/>
                <a:ext cx="873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ba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804000" y="3141720"/>
                <a:ext cx="9367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e>
                    </m:ba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508720" y="3789360"/>
                <a:ext cx="28083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e for the length of PQ, and show the general formula side by sid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9760" y="1666800"/>
            <a:ext cx="5213160" cy="4740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9240" y="54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5440" y="4483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9064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13000"/>
            <a:ext cx="2879640" cy="32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Q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5 – 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4 -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Q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Q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Q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1413000"/>
            <a:ext cx="288000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Q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 for d,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stance formu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obt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203640" y="1413000"/>
                <a:ext cx="28083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84720" y="1413000"/>
                <a:ext cx="28083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300720" y="4076640"/>
                <a:ext cx="22860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nd the length of JK using the distance formul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670720" cy="515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4360" y="587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134136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227640" y="1341360"/>
                <a:ext cx="22860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012000" y="191628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s of J and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 (-3, -5)  and K (5, 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084720" y="2852640"/>
                <a:ext cx="2652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084720" y="3500280"/>
                <a:ext cx="14655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084720" y="4076640"/>
                <a:ext cx="8557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5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1989000"/>
            <a:ext cx="849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angle has vertic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7, 16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, 4)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, –4). Prove that the triangle is right-angled in a different way than you did in the war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nd the midpoint of line J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670720" cy="5153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4360" y="587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1484280"/>
            <a:ext cx="25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e coordinates of J and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 (-3, -5)  and K (5, 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84720" y="2637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midpoint of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6093000"/>
            <a:ext cx="352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156360" y="3500280"/>
                <a:ext cx="19447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227640" y="4437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midpoint of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71640" y="6021360"/>
            <a:ext cx="71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43560" y="2133720"/>
            <a:ext cx="0" cy="3959280"/>
          </a:xfrm>
          <a:prstGeom prst="line">
            <a:avLst/>
          </a:prstGeom>
          <a:ln w="38160">
            <a:solidFill>
              <a:srgbClr val="c46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71920" y="4076640"/>
            <a:ext cx="1429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156360" y="5229360"/>
                <a:ext cx="23032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 the midpoint of JK i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670720" cy="5153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587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28800" y="40338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9280" y="38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, 3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84720" y="148428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ordinate of the midpoint is foun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84720" y="5516640"/>
                <a:ext cx="2556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300720" y="2349360"/>
                <a:ext cx="16560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156360" y="299736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ordinate of the midpoint is foun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443640" y="4005360"/>
                <a:ext cx="18734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012000" y="486900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Midpoint Fo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4:11:19Z</dcterms:created>
  <dc:creator>J F Alvarez Zafra</dc:creator>
  <dc:description/>
  <dc:language>en-US</dc:language>
  <cp:lastModifiedBy>nbdoe</cp:lastModifiedBy>
  <dcterms:modified xsi:type="dcterms:W3CDTF">2007-10-11T00:41:45Z</dcterms:modified>
  <cp:revision>53</cp:revision>
  <dc:subject>Mathematics</dc:subject>
  <dc:title>Histograms</dc:title>
</cp:coreProperties>
</file>